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60B2-4965-4885-BAF1-0BCFD5074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F740-63C8-4454-A6C8-FC0BB7BE9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1B07-122F-489A-A071-38B8258F8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30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istic(Possessions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ngsTank topsAustralian FlagMeat PieBeer (VB, Fosters)House (own)Car (own)Mammals (Kangaroo, koal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rmative (behaviours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id back attitudeSlangTolerantHardworking (yakka)Tall Poppy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gnitive (values, traditions et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zac Day AFL Australia Day MulticulturalSportsMateship (looking after one another)Freedom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4F3D2-41C2-4A05-BFA1-5BA46E7A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4DB8F-13CD-4404-9888-3C2DC2FD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0E94B-B8FF-4AC5-9496-FECCE869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D9AD2-FB6D-4D81-88C9-20D173A0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8316-2F80-4A59-8617-162C108B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A352-5580-4FEF-A4E9-67029110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91AD-4867-409F-88BA-A7089C53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8348-21A5-427E-B1AB-B25D3921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64DF-599E-493F-A3B2-D7937FB9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9B3B-A1C8-4F60-876C-45AD3881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2EAE-FBB5-4F0A-AB92-C3CBDA53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48DAE-6227-43EE-95E6-920087C8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F6CD-4E80-4A24-AFB2-2D9FE81E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31A5-BDCD-4814-AA3A-786CA294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C7D3-6AC5-49EF-8838-0F0C687C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A00E-D15A-4BB0-959C-DF76DF54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E975-F6CE-405D-B2A2-B8F6CD77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615A1-1653-44F7-A6AF-04E5F30F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082FA-5913-4C6C-A153-6B2D52EF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898EA-1E58-4679-AC99-982472B6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14185-5AC7-4200-B605-E9C3438E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7AF90-767D-4D9C-A2D7-473174CC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DFF26-2D9C-4A92-8675-7DBBEBF9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2E9EE-4686-4CB1-A3A6-B4ECDB41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24th October 2008                                                 Working in the W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1FAE-1405-40D9-B06E-F7B80278FE10}" type="slidenum">
              <a:rPr b="0" lang="en-A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24th October 2008                                                 Working in the W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0B2D-ACA3-4AD6-98F6-1279EB68FBAD}" type="slidenum">
              <a:rPr b="0" lang="en-A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adeaf.org.au/index.php?id=19#Are%20there%20any%20safety%20issues%20in%20the%20workplace,%20which%20relate%20specifically%20to%20people%20who%20are%20Deaf?" TargetMode="External"/><Relationship Id="rId2" Type="http://schemas.openxmlformats.org/officeDocument/2006/relationships/hyperlink" Target="http://www.wadeaf.org.au/index.php?id=19#Are%20Deaf%20people%20covered%20by%20workers%20compenstation%20and%20personal%20insurance%20policies?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4th October 2008                                                 Working in the W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1413000"/>
            <a:ext cx="7723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900"/>
            </a:br>
            <a:br>
              <a:rPr sz="5900"/>
            </a:br>
            <a:br>
              <a:rPr sz="5900"/>
            </a:br>
            <a:r>
              <a:rPr b="0" lang="en-US" sz="5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af Culture = impact on employ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wads logo point des"/>
          <p:cNvPicPr/>
          <p:nvPr/>
        </p:nvPicPr>
        <p:blipFill>
          <a:blip r:embed="rId1"/>
          <a:stretch/>
        </p:blipFill>
        <p:spPr>
          <a:xfrm>
            <a:off x="6948360" y="5589720"/>
            <a:ext cx="1924200" cy="73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4th October 2008                                                 Working in the W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sible Barriers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place I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7931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booking an interpr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anc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funding is available for workplace and work related mod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E funding provides up to $5000 per person to fund work related interpreting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wads logo point des"/>
          <p:cNvPicPr/>
          <p:nvPr/>
        </p:nvPicPr>
        <p:blipFill>
          <a:blip r:embed="rId1"/>
          <a:stretch/>
        </p:blipFill>
        <p:spPr>
          <a:xfrm>
            <a:off x="7740720" y="6210360"/>
            <a:ext cx="12031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4th October 2008                                                 Working in the W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813200" y="1989000"/>
            <a:ext cx="4330800" cy="31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wads logo point des"/>
          <p:cNvPicPr/>
          <p:nvPr/>
        </p:nvPicPr>
        <p:blipFill>
          <a:blip r:embed="rId1"/>
          <a:stretch/>
        </p:blipFill>
        <p:spPr>
          <a:xfrm>
            <a:off x="7740720" y="6194520"/>
            <a:ext cx="1203120" cy="458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4398840" cy="475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5">
                                  <p:stCondLst>
                                    <p:cond delay="6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4th October 2008                                                 Working in the W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0" t="0" r="0" b="28849"/>
          <a:stretch/>
        </p:blipFill>
        <p:spPr>
          <a:xfrm>
            <a:off x="900000" y="692280"/>
            <a:ext cx="7559640" cy="5375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wads logo point des"/>
          <p:cNvPicPr/>
          <p:nvPr/>
        </p:nvPicPr>
        <p:blipFill>
          <a:blip r:embed="rId2"/>
          <a:stretch/>
        </p:blipFill>
        <p:spPr>
          <a:xfrm>
            <a:off x="7740720" y="6194520"/>
            <a:ext cx="12031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4th October 2008                                                 Working in the W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us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n Sig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sed as a true Language other than English in 1987, by the Australian Government in their languages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to English, it is a visual language – cannot be written or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Aboriginal language – passed on to generations from gen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wads logo point des"/>
          <p:cNvPicPr/>
          <p:nvPr/>
        </p:nvPicPr>
        <p:blipFill>
          <a:blip r:embed="rId1"/>
          <a:stretch/>
        </p:blipFill>
        <p:spPr>
          <a:xfrm>
            <a:off x="7740720" y="6194520"/>
            <a:ext cx="1203120" cy="45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7164360" y="476280"/>
            <a:ext cx="1494000" cy="1871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187280" y="5589720"/>
            <a:ext cx="144180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4th October 2008                                                 Working in the W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 u="sng">
                <a:solidFill>
                  <a:srgbClr val="000000"/>
                </a:solidFill>
                <a:uFillTx/>
                <a:latin typeface="Arial Rounded MT Bold"/>
              </a:rPr>
              <a:t>Deaf</a:t>
            </a:r>
            <a:r>
              <a:rPr b="0" lang="en-AU" sz="4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AU" sz="4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AU" sz="4400" spc="-1" strike="noStrike">
                <a:solidFill>
                  <a:srgbClr val="000000"/>
                </a:solidFill>
                <a:latin typeface="Arial Rounded MT Bold"/>
              </a:rPr>
              <a:t>Culture</a:t>
            </a:r>
            <a:r>
              <a:rPr b="0" lang="en-AU" sz="4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AU" sz="4400" spc="-1" strike="noStrike" u="sng">
                <a:solidFill>
                  <a:srgbClr val="000000"/>
                </a:solidFill>
                <a:uFillTx/>
                <a:latin typeface="Arial Rounded MT Bold"/>
              </a:rPr>
              <a:t>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27280" y="206028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lements of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Arial"/>
              </a:rPr>
              <a:t>Materialisti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observable phenom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Arial"/>
              </a:rPr>
              <a:t>Normative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behavio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Arial"/>
              </a:rPr>
              <a:t>Cogniti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values, traditions e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j0186202"/>
          <p:cNvPicPr/>
          <p:nvPr/>
        </p:nvPicPr>
        <p:blipFill>
          <a:blip r:embed="rId1"/>
          <a:stretch/>
        </p:blipFill>
        <p:spPr>
          <a:xfrm>
            <a:off x="6877080" y="1628640"/>
            <a:ext cx="1897200" cy="1346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j0078776"/>
          <p:cNvPicPr/>
          <p:nvPr/>
        </p:nvPicPr>
        <p:blipFill>
          <a:blip r:embed="rId2"/>
          <a:stretch/>
        </p:blipFill>
        <p:spPr>
          <a:xfrm>
            <a:off x="7380360" y="4941720"/>
            <a:ext cx="1562040" cy="1151280"/>
          </a:xfrm>
          <a:prstGeom prst="rect">
            <a:avLst/>
          </a:prstGeom>
          <a:ln w="0">
            <a:noFill/>
          </a:ln>
        </p:spPr>
      </p:pic>
      <p:sp>
        <p:nvSpPr>
          <p:cNvPr id="130" name="WordArt 6"/>
          <p:cNvSpPr txBox="1"/>
          <p:nvPr/>
        </p:nvSpPr>
        <p:spPr>
          <a:xfrm>
            <a:off x="5796000" y="3860640"/>
            <a:ext cx="3057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Comic Sans MS"/>
              </a:rPr>
              <a:t>G'Day Matey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Comic Sans MS"/>
              <a:ea typeface="Comic Sans MS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3"/>
          <a:srcRect l="20708" t="0" r="30581" b="6124"/>
          <a:stretch/>
        </p:blipFill>
        <p:spPr>
          <a:xfrm>
            <a:off x="971640" y="4869000"/>
            <a:ext cx="914400" cy="1760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/>
          <p:cNvPicPr/>
          <p:nvPr/>
        </p:nvPicPr>
        <p:blipFill>
          <a:blip r:embed="rId4"/>
          <a:stretch/>
        </p:blipFill>
        <p:spPr>
          <a:xfrm>
            <a:off x="611280" y="3284640"/>
            <a:ext cx="1762200" cy="1419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"/>
          <p:cNvPicPr/>
          <p:nvPr/>
        </p:nvPicPr>
        <p:blipFill>
          <a:blip r:embed="rId5"/>
          <a:stretch/>
        </p:blipFill>
        <p:spPr>
          <a:xfrm>
            <a:off x="611280" y="2060640"/>
            <a:ext cx="1428480" cy="933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wads logo point des"/>
          <p:cNvPicPr/>
          <p:nvPr/>
        </p:nvPicPr>
        <p:blipFill>
          <a:blip r:embed="rId6"/>
          <a:stretch/>
        </p:blipFill>
        <p:spPr>
          <a:xfrm>
            <a:off x="7740720" y="6194520"/>
            <a:ext cx="1203120" cy="45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4th October 2008                                                 Working in the W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 Rounded MT Bold"/>
              </a:rPr>
              <a:t>Deaf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71640" y="1413000"/>
          <a:ext cx="7561080" cy="4599000"/>
        </p:xfrm>
        <a:graphic>
          <a:graphicData uri="http://schemas.openxmlformats.org/drawingml/2006/table">
            <a:tbl>
              <a:tblPr/>
              <a:tblGrid>
                <a:gridCol w="2519280"/>
                <a:gridCol w="2522520"/>
                <a:gridCol w="2519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li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ni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shing Lights for doorbell, phone, clock, baby cry, fire/smok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Y (Telephone Typewri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brating pagers, mobile phones, c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control ph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ing d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pr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plan h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den floorboa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lighting in h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pp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g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observ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ly orient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between peo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king is greater (no need to duck to walk throug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ly expres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contact comm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goodb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ority 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al access iss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 sense of commu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- Aus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erature/art/poetry and thea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f hum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ssociation from spe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y te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of opp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18" descr="wads logo point des"/>
          <p:cNvPicPr/>
          <p:nvPr/>
        </p:nvPicPr>
        <p:blipFill>
          <a:blip r:embed="rId1"/>
          <a:stretch/>
        </p:blipFill>
        <p:spPr>
          <a:xfrm>
            <a:off x="7740720" y="6194520"/>
            <a:ext cx="1203120" cy="458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9" descr=""/>
          <p:cNvPicPr/>
          <p:nvPr/>
        </p:nvPicPr>
        <p:blipFill>
          <a:blip r:embed="rId2"/>
          <a:stretch/>
        </p:blipFill>
        <p:spPr>
          <a:xfrm>
            <a:off x="2484360" y="4365720"/>
            <a:ext cx="774720" cy="863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0" descr="bd06651_"/>
          <p:cNvPicPr/>
          <p:nvPr/>
        </p:nvPicPr>
        <p:blipFill>
          <a:blip r:embed="rId3"/>
          <a:stretch/>
        </p:blipFill>
        <p:spPr>
          <a:xfrm>
            <a:off x="5003640" y="5229360"/>
            <a:ext cx="906480" cy="90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1" descr=""/>
          <p:cNvPicPr/>
          <p:nvPr/>
        </p:nvPicPr>
        <p:blipFill>
          <a:blip r:embed="rId4"/>
          <a:stretch/>
        </p:blipFill>
        <p:spPr>
          <a:xfrm>
            <a:off x="6948360" y="4941720"/>
            <a:ext cx="8622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4th October 2008                                                 Working in the W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“Peter Smith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 - How to inform Deaf employee to stop working when the phone 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-  provide flashing light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ing – Apply to Job Access for Workplace modifications 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wads logo point des"/>
          <p:cNvPicPr/>
          <p:nvPr/>
        </p:nvPicPr>
        <p:blipFill>
          <a:blip r:embed="rId1"/>
          <a:stretch/>
        </p:blipFill>
        <p:spPr>
          <a:xfrm>
            <a:off x="7740720" y="6194520"/>
            <a:ext cx="12031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4th October 2008                                                 Working in the W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“Jim Jone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 - How to greet Deaf staff in the appropriate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- provide Deafness Awareness Training for staff who work with Deaf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ing - Apply for Auslan for Employment funding through Job Access and contact the WA Deaf Society to arrange a Deafness Awareness Train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wads logo point des"/>
          <p:cNvPicPr/>
          <p:nvPr/>
        </p:nvPicPr>
        <p:blipFill>
          <a:blip r:embed="rId1"/>
          <a:stretch/>
        </p:blipFill>
        <p:spPr>
          <a:xfrm>
            <a:off x="7740720" y="6194520"/>
            <a:ext cx="12031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4th October 2008                                                 Working in the W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“Mary Black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 - How to communicate with Deaf employ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- Staff can receive training by learning Auslan as other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-  Apply for Auslan for Employment funding for colleagues of a Deaf person to attend TAFE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wads logo point des"/>
          <p:cNvPicPr/>
          <p:nvPr/>
        </p:nvPicPr>
        <p:blipFill>
          <a:blip r:embed="rId1"/>
          <a:stretch/>
        </p:blipFill>
        <p:spPr>
          <a:xfrm>
            <a:off x="7740720" y="6194520"/>
            <a:ext cx="12031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4th October 2008                                                 Working in the W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Questions about Deaf people in the Workp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Are there any safety issues in the workplace, which relate specifically to people who are Dea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Are Deaf people covered by workers compensation and personal insurance policies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Deaf people have more accidents in the workplace than their hearing pe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Deaf people obtain a license to drive a forklif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Deaf people have more driving accidents than hearing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wadeaf.org.au/index.php?id=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wads logo point des"/>
          <p:cNvPicPr/>
          <p:nvPr/>
        </p:nvPicPr>
        <p:blipFill>
          <a:blip r:embed="rId3"/>
          <a:stretch/>
        </p:blipFill>
        <p:spPr>
          <a:xfrm>
            <a:off x="7740720" y="6194520"/>
            <a:ext cx="12031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06:13:11Z</dcterms:created>
  <dc:creator>ecameron</dc:creator>
  <dc:description/>
  <cp:keywords/>
  <dc:language>en-US</dc:language>
  <cp:lastModifiedBy>tpaterson</cp:lastModifiedBy>
  <dcterms:modified xsi:type="dcterms:W3CDTF">2008-10-28T02:42:02Z</dcterms:modified>
  <cp:revision>5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20091033</vt:lpwstr>
  </property>
</Properties>
</file>